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BC78-7326-4EC7-9677-3F55FE26F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20D4-0C0B-4807-8107-A3BC68E9E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E1A-D03A-48F8-B3A4-272547943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924-6256-40EF-8FEF-AB65D84B6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8EB6-F3BE-4F3B-9790-84C2FC7CF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A3C-35A3-4B45-B0D9-58EF1DF6F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075-356B-4C01-8AF7-EFD6293D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17D-06FE-4079-8F68-6FD3EDB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E9A-CB89-42CA-A3FE-2BCD8BF9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738-0E1E-43CF-86A9-96489A8D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0FC-4F59-484F-AC28-320900D2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31F-3E5E-470A-A150-D58B009E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9A4-CF61-4080-81E8-4B1F1F46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86F-A3C1-4A94-AF6C-1D9C6B90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736-4C95-48CC-9879-1649A3B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187-C34B-44DB-98E3-B4DBAB9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A45-8E66-4B3D-89DB-961C981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BC8-BD8A-4B4B-B7AE-2A20350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03C-626A-4DDF-88EC-07F7B9546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79346" b="0"/>
          <a:stretch/>
        </p:blipFill>
        <p:spPr>
          <a:xfrm>
            <a:off x="4191120" y="2209680"/>
            <a:ext cx="1600200" cy="464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0" t="0" r="75492" b="0"/>
          <a:stretch/>
        </p:blipFill>
        <p:spPr>
          <a:xfrm>
            <a:off x="5867280" y="2209680"/>
            <a:ext cx="1905120" cy="4648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838080" y="2209680"/>
            <a:ext cx="31244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ketch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IES 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838080" y="2666880"/>
            <a:ext cx="3124440" cy="419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990720" y="2743200"/>
            <a:ext cx="28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Recommended practice for exporting SketchUp models to IES 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114800" y="2666880"/>
            <a:ext cx="4419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quired reading and watching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S VE SketchUp plugin tutorials and help fi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ideo tutorials for modeling in SketchU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ketchup.google.com/training/videos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838080" y="2666880"/>
            <a:ext cx="3124440" cy="419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914400" y="2819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2f2f2"/>
                </a:solidFill>
                <a:uFillTx/>
                <a:latin typeface="Calibri"/>
              </a:rPr>
              <a:t>Model it right </a:t>
            </a:r>
            <a:r>
              <a:rPr b="1" lang="en-US" sz="1600" spc="-1" strike="noStrike">
                <a:solidFill>
                  <a:srgbClr val="f2f2f2"/>
                </a:solidFill>
                <a:latin typeface="Calibri"/>
              </a:rPr>
              <a:t>in Sketch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609480" y="762120"/>
            <a:ext cx="34290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up Model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09480" y="182880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Recommended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up the model properties before modeling (Window&gt;Model inf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up the geographical location and orientation and enable the North angle in model to avoid any confusion in later s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ommon unit system for SketchUp and IES to avoid scale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09480" y="762120"/>
            <a:ext cx="34290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2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 it right in Sketch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609480" y="144792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Recommended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2D surfaces for enclosure instead of 3D el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checking for the closed geometry for every space to be analyzed during the model process to avoid complexity at later st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m and erase all extra lines or surfaces periodic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drawing shading devices which are not rooms, keep the geometry separate from the main building and then move it on the required 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y materials after all the geometrical modifications are done to avoid misleading surface proper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keep any element as entity or group. All the elements must be exploded for proper export to 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609480" y="762120"/>
            <a:ext cx="34290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3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 for ro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6:57:50Z</dcterms:created>
  <dc:creator>k</dc:creator>
  <dc:description/>
  <dc:language>en-US</dc:language>
  <cp:lastModifiedBy>k</cp:lastModifiedBy>
  <dcterms:modified xsi:type="dcterms:W3CDTF">2009-01-12T20:16:37Z</dcterms:modified>
  <cp:revision>21</cp:revision>
  <dc:subject/>
  <dc:title>Slide 1</dc:title>
</cp:coreProperties>
</file>